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 handout instead so that partners have to talk about it and people are more likely to engage in the math if the answer isn’t right there for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look at examples of each of these in the context of specific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CDAC-0A03-449C-8B38-1BFB52C6094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look at examples of each of these in the context of specific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99C2-6C56-453B-86A4-BFC3159D6AA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0B4B-6863-4743-A591-11A1F5E39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B158F-C01B-47B1-942F-E7B7D7F45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3519C-E6FF-4D59-8D9E-4EFA7C8A9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5365-0D5A-4F49-A292-FB1EC30252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1F964-7995-4BE9-98F3-BB55A68F80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1067-AB6D-45D8-8ADE-F69CC2FB6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A515-47DB-4013-B8F7-134E06B19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A292B-C874-4B5E-819E-4DC4F5CFB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5576-DF5D-41CD-8300-E2572AAAA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3EE4-4680-4247-83C9-247E4BBC1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023B-5AFA-4BD4-AA40-8D6930596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6B8F7-C049-4EC3-A213-49CE651AF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80F2-6433-4A00-92CE-C2741BC94E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7C68-2596-457D-9A2C-B51D15DD44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Sandra Fr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Erik T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riangle Dot Problem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47920" y="34286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bove is a 4 dot triangle where each side has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ts.  It is made using a total of 9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next triangle is a 6 dot triangle.  It ha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tal of 15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ow many dots would you need altogether fo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00 dot triang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CA56-9CA7-42D7-8176-A0279AB784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6"/>
          <p:cNvGrpSpPr/>
          <p:nvPr/>
        </p:nvGrpSpPr>
        <p:grpSpPr>
          <a:xfrm>
            <a:off x="2514600" y="2286000"/>
            <a:ext cx="1092240" cy="1041480"/>
            <a:chOff x="2514600" y="2286000"/>
            <a:chExt cx="1092240" cy="1041480"/>
          </a:xfrm>
        </p:grpSpPr>
        <p:sp>
          <p:nvSpPr>
            <p:cNvPr id="89" name="Oval 7"/>
            <p:cNvSpPr/>
            <p:nvPr/>
          </p:nvSpPr>
          <p:spPr>
            <a:xfrm>
              <a:off x="3009960" y="228600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8"/>
            <p:cNvSpPr/>
            <p:nvPr/>
          </p:nvSpPr>
          <p:spPr>
            <a:xfrm>
              <a:off x="2806560" y="256536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"/>
            <p:cNvSpPr/>
            <p:nvPr/>
          </p:nvSpPr>
          <p:spPr>
            <a:xfrm>
              <a:off x="2654280" y="287028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0"/>
            <p:cNvSpPr/>
            <p:nvPr/>
          </p:nvSpPr>
          <p:spPr>
            <a:xfrm>
              <a:off x="2514600" y="313704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1"/>
            <p:cNvSpPr/>
            <p:nvPr/>
          </p:nvSpPr>
          <p:spPr>
            <a:xfrm>
              <a:off x="2844720" y="31496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2"/>
            <p:cNvSpPr/>
            <p:nvPr/>
          </p:nvSpPr>
          <p:spPr>
            <a:xfrm>
              <a:off x="3162240" y="31496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3"/>
            <p:cNvSpPr/>
            <p:nvPr/>
          </p:nvSpPr>
          <p:spPr>
            <a:xfrm>
              <a:off x="3441960" y="313704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4"/>
            <p:cNvSpPr/>
            <p:nvPr/>
          </p:nvSpPr>
          <p:spPr>
            <a:xfrm>
              <a:off x="3327480" y="287028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5"/>
            <p:cNvSpPr/>
            <p:nvPr/>
          </p:nvSpPr>
          <p:spPr>
            <a:xfrm>
              <a:off x="3162240" y="259056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6"/>
          <p:cNvGrpSpPr/>
          <p:nvPr/>
        </p:nvGrpSpPr>
        <p:grpSpPr>
          <a:xfrm>
            <a:off x="3886200" y="1676520"/>
            <a:ext cx="1752120" cy="1638360"/>
            <a:chOff x="3886200" y="1676520"/>
            <a:chExt cx="1752120" cy="1638360"/>
          </a:xfrm>
        </p:grpSpPr>
        <p:sp>
          <p:nvSpPr>
            <p:cNvPr id="99" name="Oval 17"/>
            <p:cNvSpPr/>
            <p:nvPr/>
          </p:nvSpPr>
          <p:spPr>
            <a:xfrm>
              <a:off x="4736880" y="167652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8"/>
            <p:cNvSpPr/>
            <p:nvPr/>
          </p:nvSpPr>
          <p:spPr>
            <a:xfrm>
              <a:off x="4533840" y="195588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9"/>
            <p:cNvSpPr/>
            <p:nvPr/>
          </p:nvSpPr>
          <p:spPr>
            <a:xfrm>
              <a:off x="4381560" y="226080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0"/>
            <p:cNvSpPr/>
            <p:nvPr/>
          </p:nvSpPr>
          <p:spPr>
            <a:xfrm>
              <a:off x="4241880" y="252756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1"/>
            <p:cNvSpPr/>
            <p:nvPr/>
          </p:nvSpPr>
          <p:spPr>
            <a:xfrm>
              <a:off x="4076640" y="283212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2"/>
            <p:cNvSpPr/>
            <p:nvPr/>
          </p:nvSpPr>
          <p:spPr>
            <a:xfrm>
              <a:off x="3886200" y="311184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3"/>
            <p:cNvSpPr/>
            <p:nvPr/>
          </p:nvSpPr>
          <p:spPr>
            <a:xfrm>
              <a:off x="5181480" y="252756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4"/>
            <p:cNvSpPr/>
            <p:nvPr/>
          </p:nvSpPr>
          <p:spPr>
            <a:xfrm>
              <a:off x="5067000" y="226080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5"/>
            <p:cNvSpPr/>
            <p:nvPr/>
          </p:nvSpPr>
          <p:spPr>
            <a:xfrm>
              <a:off x="4902120" y="198108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6"/>
            <p:cNvSpPr/>
            <p:nvPr/>
          </p:nvSpPr>
          <p:spPr>
            <a:xfrm>
              <a:off x="5473440" y="311184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7"/>
            <p:cNvSpPr/>
            <p:nvPr/>
          </p:nvSpPr>
          <p:spPr>
            <a:xfrm>
              <a:off x="5308560" y="280692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8"/>
            <p:cNvSpPr/>
            <p:nvPr/>
          </p:nvSpPr>
          <p:spPr>
            <a:xfrm>
              <a:off x="4190760" y="31244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9"/>
            <p:cNvSpPr/>
            <p:nvPr/>
          </p:nvSpPr>
          <p:spPr>
            <a:xfrm>
              <a:off x="4533840" y="31370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0"/>
            <p:cNvSpPr/>
            <p:nvPr/>
          </p:nvSpPr>
          <p:spPr>
            <a:xfrm>
              <a:off x="4876560" y="31244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1"/>
            <p:cNvSpPr/>
            <p:nvPr/>
          </p:nvSpPr>
          <p:spPr>
            <a:xfrm>
              <a:off x="5168880" y="31244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ink about the math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, discuss (quick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tion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Ide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7016-1755-4FD3-AA96-70CA360E93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599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decide what a good answer to this problem would look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CF49-D17B-45AA-9E0E-97EC9D86ED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tudent Samples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20574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 the feedback you would provide to the  stud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E040-F179-451F-844E-EC3A644B85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…Responding to Students in the Mo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A1E9-A45F-4AF9-B43B-AADFDBF13A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6"/>
          <p:cNvSpPr/>
          <p:nvPr/>
        </p:nvSpPr>
        <p:spPr>
          <a:xfrm>
            <a:off x="3200400" y="3657600"/>
            <a:ext cx="3429000" cy="1676520"/>
          </a:xfrm>
          <a:prstGeom prst="cloudCallout">
            <a:avLst>
              <a:gd name="adj1" fmla="val -73842"/>
              <a:gd name="adj2" fmla="val -4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you say if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Dotmocracy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44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the student solutions, look for evidence of multiplicative thinking, generalizations and multiple representatio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FCC3-E7B6-44B8-A9DA-62F6F2B0B3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uccess Criteria…revisite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120" y="1981080"/>
            <a:ext cx="7543800" cy="24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5000"/>
          </a:bodyPr>
          <a:p>
            <a:pPr marL="32508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a table, discuss any changes you would make to your previously constructed success criteria now that you had the opportunity to look at some student sam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F8D5-CDBC-4D24-9CB6-3ABFFF8E0B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400" y="2285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4516-96B7-4975-94F3-805CE7B982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ing and Algebra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FCB4-D8E0-45D6-901E-7FE1B34FFB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E:\Beach Images\Beach &amp; Water (A - B)\Beach Balls 1.wmf"/>
          <p:cNvPicPr/>
          <p:nvPr/>
        </p:nvPicPr>
        <p:blipFill>
          <a:blip r:embed="rId2"/>
          <a:stretch/>
        </p:blipFill>
        <p:spPr>
          <a:xfrm>
            <a:off x="2666880" y="1905120"/>
            <a:ext cx="36547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ample Solu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following sample solutions and decide if they are a good solution (based on your group’s decision about what a good answer looks lik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E621-470F-4901-AEF1-51E4981F5A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 Different Le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Generaliza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fication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explore our sample solutions through this different lens.  Determine where the solutions fit using these frame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A854-45AA-43FC-98F7-1F84F18F69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eneralization Strateg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1600200"/>
          <a:ext cx="8229600" cy="4668840"/>
        </p:xfrm>
        <a:graphic>
          <a:graphicData uri="http://schemas.openxmlformats.org/drawingml/2006/table">
            <a:tbl>
              <a:tblPr/>
              <a:tblGrid>
                <a:gridCol w="1447920"/>
                <a:gridCol w="6781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ing a picture or constructing a model to represent the situation to count the desired attrib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the previous term or terms in the sequence to determine subsequent terms (Additive think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le-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a portion as a unit to construct a larger unit by multiplying. There may or may not be an appropriate adjustment for over-or-undercount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ess-and-che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essing a rule without regard to why this rule might work. Usually this involves experimenting with various operations and numbers provided in the problem situ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ng an explicit rule that expresses the co-variation of two sets of data, based on information provided in the situation. An explicit rule can allow for the prediction of any term number in the patter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Justification Frame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8229600" cy="3301920"/>
        </p:xfrm>
        <a:graphic>
          <a:graphicData uri="http://schemas.openxmlformats.org/drawingml/2006/table">
            <a:tbl>
              <a:tblPr/>
              <a:tblGrid>
                <a:gridCol w="3124080"/>
                <a:gridCol w="510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stification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0: No Jus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s do not address jus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1: Appeal to external auth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 is made to the correctness stated by some other individual or reference 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2: Empirical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fication is provided through the correctness of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articula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3: Generic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ductive justification is expressed for a particular instan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4: Deductive jus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ity is given through a deductive argument that is independent of particular ins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feel about these frame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these frameworks match your success criter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(frameworks/success criteria) is more beneficial for students?  teac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C539-2D99-4E76-A031-97BDE74CD6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bout the math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as there evidenc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04BA-FC44-4A97-B75F-E8DEFDF881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Border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7 Class Video – 10 x 10 gr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you notice abou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a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nstructional decisions the teacher mak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D268-13D3-4ED2-BEFA-D4B71075E0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83" name="Content Placeholder 2"/>
          <p:cNvSpPr/>
          <p:nvPr/>
        </p:nvSpPr>
        <p:spPr>
          <a:xfrm>
            <a:off x="1905120" y="1447920"/>
            <a:ext cx="48765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Erik Teather</cp:lastModifiedBy>
  <dcterms:modified xsi:type="dcterms:W3CDTF">2011-08-16T18:42:15Z</dcterms:modified>
  <cp:revision>81</cp:revision>
  <dc:subject/>
  <dc:title>&lt;Title&gt;</dc:title>
</cp:coreProperties>
</file>